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FBD9-11D4-45A7-BCC7-6677DFCBA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5410-E9D2-42E7-B283-1379B16C2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6EAF-5B34-460A-A685-947A8551E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1D9A-E4B2-49ED-9DF5-2BF77D7762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1FEF-A8AE-48E4-A73C-CA4FAA4951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AE2E-E032-49DB-B1C7-6AF0E94BC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115E-43B4-48AA-BFD3-F5F987DE0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26E66-20A7-43B2-AE31-02D245257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6205-A70D-4B83-9E89-176F0DDF0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D12A-5B2C-4D4B-8190-5CC5BFC6D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48F2-B13D-4627-8A4D-DE213C2AE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2496-07FB-48F4-8EFE-1EF42AFF2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9946-5B5C-4303-BA4C-B28C0F7F04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K-4 is Awesom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40" name="Content Placeholder 7" descr="Screen shot 2011-08-16 at 4.50.08 PM.png"/>
          <p:cNvPicPr/>
          <p:nvPr/>
        </p:nvPicPr>
        <p:blipFill>
          <a:blip r:embed="rId1"/>
          <a:srcRect l="0" t="-105131" r="0" b="-105131"/>
          <a:stretch/>
        </p:blipFill>
        <p:spPr>
          <a:xfrm>
            <a:off x="457200" y="-228600"/>
            <a:ext cx="4038480" cy="6477120"/>
          </a:xfrm>
          <a:prstGeom prst="rect">
            <a:avLst/>
          </a:prstGeom>
          <a:ln w="0">
            <a:noFill/>
          </a:ln>
        </p:spPr>
      </p:pic>
      <p:sp>
        <p:nvSpPr>
          <p:cNvPr id="4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D224-A9EA-4C07-B0B0-29A4CDCE83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304920" y="44197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nifer Kristen Carla   C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0"/>
          <p:cNvSpPr/>
          <p:nvPr/>
        </p:nvSpPr>
        <p:spPr>
          <a:xfrm>
            <a:off x="4648320" y="4419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ia      Sandy    Sue   L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Content Placeholder 12" descr="Screen shot 2011-08-16 at 4.52.47 PM.png"/>
          <p:cNvPicPr/>
          <p:nvPr/>
        </p:nvPicPr>
        <p:blipFill>
          <a:blip r:embed="rId2"/>
          <a:srcRect l="0" t="-3644" r="0" b="-3644"/>
          <a:stretch/>
        </p:blipFill>
        <p:spPr>
          <a:xfrm>
            <a:off x="4648320" y="1905120"/>
            <a:ext cx="403848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K-4 is Awesom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3686-21CC-4499-BBE1-9C9ED10263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304920" y="4419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issa Lori    Barb  H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4495680" y="4419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y MaryLou Tracey Chris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ontent Placeholder 13" descr="Screen shot 2011-08-16 at 4.55.48 PM.png"/>
          <p:cNvPicPr/>
          <p:nvPr/>
        </p:nvPicPr>
        <p:blipFill>
          <a:blip r:embed="rId1"/>
          <a:srcRect l="0" t="-2514" r="1887" b="-8042"/>
          <a:stretch/>
        </p:blipFill>
        <p:spPr>
          <a:xfrm>
            <a:off x="380880" y="1600200"/>
            <a:ext cx="3962520" cy="236232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14" descr="Screen shot 2011-08-16 at 4.59.36 PM.png"/>
          <p:cNvPicPr/>
          <p:nvPr/>
        </p:nvPicPr>
        <p:blipFill>
          <a:blip r:embed="rId2"/>
          <a:srcRect l="0" t="-8690" r="0" b="-8690"/>
          <a:stretch/>
        </p:blipFill>
        <p:spPr>
          <a:xfrm>
            <a:off x="4648320" y="1447920"/>
            <a:ext cx="4038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K-4 is Awesom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6EED-6B69-429A-B2A8-92D9A38DC2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0" y="4419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ie Heather   Heather Nik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4495680" y="4419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i     Tracy    Renee      D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11" descr="Screen shot 2011-08-16 at 5.01.05 PM.png"/>
          <p:cNvPicPr/>
          <p:nvPr/>
        </p:nvPicPr>
        <p:blipFill>
          <a:blip r:embed="rId1"/>
          <a:srcRect l="0" t="-26268" r="0" b="-847"/>
          <a:stretch/>
        </p:blipFill>
        <p:spPr>
          <a:xfrm>
            <a:off x="457200" y="160020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16" descr="Screen shot 2011-08-16 at 5.02.30 PM.png"/>
          <p:cNvPicPr/>
          <p:nvPr/>
        </p:nvPicPr>
        <p:blipFill>
          <a:blip r:embed="rId2"/>
          <a:srcRect l="0" t="-6232" r="0" b="3544"/>
          <a:stretch/>
        </p:blipFill>
        <p:spPr>
          <a:xfrm>
            <a:off x="4648320" y="198108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K-4 is Awesom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46FE-D254-42FE-A481-B8EF35E2EE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457200" y="4419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i   Megan   Daria   M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5" descr="Screen shot 2011-08-17 at 11.20.32 AM.png"/>
          <p:cNvPicPr/>
          <p:nvPr/>
        </p:nvPicPr>
        <p:blipFill>
          <a:blip r:embed="rId1"/>
          <a:srcRect l="0" t="-7448" r="0" b="-7448"/>
          <a:stretch/>
        </p:blipFill>
        <p:spPr>
          <a:xfrm>
            <a:off x="457200" y="1600200"/>
            <a:ext cx="40384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20:47:45Z</dcterms:created>
  <dc:creator>CSC</dc:creator>
  <dc:description/>
  <cp:keywords/>
  <dc:language>en-US</dc:language>
  <cp:lastModifiedBy>Kathy Kubota-Zarivnij</cp:lastModifiedBy>
  <dcterms:modified xsi:type="dcterms:W3CDTF">2011-08-17T15:33:43Z</dcterms:modified>
  <cp:revision>14</cp:revision>
  <dc:subject/>
  <dc:title>&lt;Title&gt;</dc:title>
</cp:coreProperties>
</file>